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C21-D857-4ED9-B82A-E1DD0A5E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D9B-B44B-4FFD-834A-6B8C0BCB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F8C-939A-4225-894A-1A900287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E2F-CEED-4AAF-B1F4-5F9C5621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300B4-38A5-4168-91B6-A7AB69A4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5D16C-54CB-450F-B237-6FFC950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3775F-C3AB-4339-AA83-FB666489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41A4-E382-43FE-8222-2B54320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BC7A-53A9-434F-B94C-4107F34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E32B5-AB23-44B2-93F6-C827276A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FE5B1-FE76-4A2A-88C3-43DFF2B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7F8-4827-4088-840D-8ACD96C9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590D2-ACD9-463F-B6AB-6DEFCC5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4054-4800-482C-8119-E118333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6A48-D18E-45EA-941A-AFB8B87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44433-2785-4A55-8AE4-788957A6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73BB-4CD3-4142-A465-E604F0B7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A3F-9034-4680-81F6-193A915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45C-318C-4CE3-A69F-6077F88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615-DAB8-4327-B932-243F790D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4F4-1A2D-4716-BCA9-A0D44F45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FD0-09B1-4E39-A877-0DE5170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3E7-6491-486F-AD70-813BD9D4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84A-DA8F-4F91-8372-DFF6932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7D0-DA29-4F0F-85E6-CFBA70BC9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AD59-A0DB-45E1-940C-322AD0052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eb-web.ru/feb/tolstoy/pictures/T01-fron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t.ru/images/it/5000584_b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pedia.org/11/9.files/image05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увства ,поступки и духовный мир гл .героя в повести Л . Н . Толстого «Детств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95680" y="342864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 факультета ,34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нкявичюте Диан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чебники – хрестомат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толковые словари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ru.wikipedia.org/wiki/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_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festival.1september.ru/articles/41536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www.tolstoymuseum.ru/live/forkids.ht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Чувства , поступки и духовный мир гл . героя в повести Л . Н . Толстого « Детство»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ир глазами ребёнка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Картинка 34 из 9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590920"/>
            <a:ext cx="3143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побуждает к жизни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Картинка 20 из 11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743200"/>
            <a:ext cx="340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овесть « Детство» Толстого автобиографична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.Что запомнилось Николеньке от матери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.Почему Николенька называет своих родителей на французский лад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.Какой случай из жизни Николенька запомнил на всю жизнь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.Какие чувства присущи главному герою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Дидактические це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Формирование навыков работы в групп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иобретение навыков самостоятельной работы с большим объёмом информации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Участники проекта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мет :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ое пособие : учебник – хрестоматия под редакцией В . Я . Коровиной – 1ч ., Москва «Просвещение» - 2004 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Результаты представления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очинение –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ставка рису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Мы будем изучать следующие глав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« Клас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«Наталья Савиш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«Детст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Картинка 4 из 7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276720"/>
            <a:ext cx="4467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апы и сроки проведения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амостоятельная работа учащихся по обсуждению задания в каждой групп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амостоятельная работа групп по выполнению заданий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одготовка к выставке рисунко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ывод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4:50:0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